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06777"/>
        <c:axId val="89898803"/>
      </c:barChart>
      <c:catAx>
        <c:axId val="27506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98803"/>
        <c:crosses val="autoZero"/>
        <c:auto val="1"/>
        <c:lblAlgn val="ctr"/>
        <c:lblOffset val="100"/>
        <c:noMultiLvlLbl val="0"/>
      </c:catAx>
      <c:valAx>
        <c:axId val="89898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06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A0B-8A65-443F-B021-D8473020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0C8-AE77-47CD-9AB5-DFFC144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DC7-B05B-4E0F-979F-631AE575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5E2-D00F-447D-9528-7061FBB1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482-1E6C-4FCD-BFB9-E06A79A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82A-2E33-4958-BC16-90B68C1C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BB1-26BB-4AE2-ABE6-F3EFB7C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207-AAC1-429D-895D-CD5B1CA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630-2A3A-489A-8DCA-0870A5AA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039-1B36-4593-A950-797212D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7AA-0C21-4802-BD2B-687A737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3FA-9428-46F6-A89C-03CC3C8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2F0BD-8C53-4100-994A-9851E927EF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