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40086"/>
        <c:axId val="85360629"/>
      </c:barChart>
      <c:catAx>
        <c:axId val="14240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60629"/>
        <c:crosses val="autoZero"/>
        <c:auto val="1"/>
        <c:lblAlgn val="ctr"/>
        <c:lblOffset val="100"/>
        <c:noMultiLvlLbl val="0"/>
      </c:catAx>
      <c:valAx>
        <c:axId val="85360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40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E84-A703-4EA7-81A3-577C337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706-92BE-4E99-A08B-0AA4832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9A5-22CA-4756-BEF2-09690A1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7F1-92F3-405F-8548-5B8C4727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F15-2A6F-4D3C-81FC-ECED5693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715-908B-4710-A295-8024288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304-23F9-440D-8330-6F040F29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F54-7ACB-413A-B58A-8630A2D7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F43-24AE-4445-A01F-9205B1D0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8C8-AF57-4834-A404-F9A7184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0C8-69EC-4537-85D3-BDF0B6A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FD2-8B5C-4DAE-B881-E74D455D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A057C-CE0B-442A-AB98-FFCFA111B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