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912238"/>
        <c:axId val="75726516"/>
      </c:barChart>
      <c:catAx>
        <c:axId val="449122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726516"/>
        <c:crosses val="autoZero"/>
        <c:auto val="1"/>
        <c:lblAlgn val="ctr"/>
        <c:lblOffset val="100"/>
        <c:noMultiLvlLbl val="0"/>
      </c:catAx>
      <c:valAx>
        <c:axId val="757265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9122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16FA-68F5-4E3B-88EC-7089AC2FD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BDC9-8DA4-4BBE-9AD6-DFDE0B286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F2A3-2106-4285-8903-92A5731B7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D6CC-1AB1-4DE8-9575-24AA9976A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AD11-9BDF-4297-A612-969E0FBF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7E1C-8334-45AE-BF6A-797B5B3D1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FC9B-38EA-4731-9B27-E00C25B88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94AC-3834-40AA-8544-EDB8D2F1E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5F15-7520-4E4C-ABB1-B0F0BC9C7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558F-FF2A-4F5C-9D50-83BC258B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A60C-F17C-4467-B2E3-69EF7860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4214-88D1-4D38-AD05-9B41B258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D3BD11-535B-465F-A155-D6A635672F8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