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1436"/>
        <c:axId val="48512779"/>
      </c:barChart>
      <c:catAx>
        <c:axId val="2631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12779"/>
        <c:crosses val="autoZero"/>
        <c:auto val="1"/>
        <c:lblAlgn val="ctr"/>
        <c:lblOffset val="100"/>
        <c:noMultiLvlLbl val="0"/>
      </c:catAx>
      <c:valAx>
        <c:axId val="48512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1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7B7-5B7E-4B94-BB79-69A93FDB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8D5-3994-4A2B-AFEA-1DDA4DE3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B61-5C3B-4503-9F21-2D99A2A9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DA9-4BC8-48D0-9E05-CD18E67C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E71-950E-4DDD-BA57-59CE9AE6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96F-FD1A-4726-9514-6FD8D540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5AA-2F7C-428F-8A37-BEB95A2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D78-A5C6-4DA6-895A-9FB048FF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8F6-434E-4E38-AC91-977C2AFE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43B-AC54-4274-8218-5AA504EB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9077-3B7A-459F-AB50-A18ED23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80A-11A4-418C-B055-66862E99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5507B-8064-4E45-BCA8-2E8B2F9C3E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