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48702"/>
        <c:axId val="92147609"/>
      </c:barChart>
      <c:catAx>
        <c:axId val="10248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47609"/>
        <c:crosses val="autoZero"/>
        <c:auto val="1"/>
        <c:lblAlgn val="ctr"/>
        <c:lblOffset val="100"/>
        <c:noMultiLvlLbl val="0"/>
      </c:catAx>
      <c:valAx>
        <c:axId val="92147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48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B04-351E-496A-B69D-47BFD8E2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4B3-88DA-4EBB-9861-01081496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2DC-ED5E-4098-815C-C08E769A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5EE-EAEE-4E78-A038-2CB144CF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7B3-F174-45C1-920B-D15B9455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CFE-34CC-4B5C-917C-D4D9A4E7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BBF-5C12-415E-A01B-D8067B93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1BD0-44C4-4D05-B8D3-3E488EE9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694-9AFD-451F-ABD0-84CC5889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B10-20A9-406A-BBEA-8AD05C78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202-4D44-4E4E-80DF-A557AAE4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7BC-909D-4572-815E-5DB64457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45F5F-6AE9-4B39-A445-3148539240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