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1676036"/>
        <c:axId val="19791122"/>
      </c:barChart>
      <c:catAx>
        <c:axId val="7167603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791122"/>
        <c:crosses val="autoZero"/>
        <c:auto val="1"/>
        <c:lblAlgn val="ctr"/>
        <c:lblOffset val="100"/>
        <c:noMultiLvlLbl val="0"/>
      </c:catAx>
      <c:valAx>
        <c:axId val="1979112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67603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D44A-8DC3-4A2E-B02B-25F0E50EC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104C-EE9B-4C76-8129-F0F0C7E61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DEBC-D281-49C5-BEFE-5B9F958F7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8D70-51B6-4F0C-893E-F89FDEE79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2A9B-9AB7-4E38-A27A-D54435A1A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E842-C9F2-46C2-AD76-532BAAB55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D78D-E73D-4D09-AEEE-248F15781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B0EC-B72D-46C6-BA9F-64EF26662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233C-9B7E-4A6F-A8E8-61B92DB07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F362-861C-43B5-B1D1-DAE95E709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707F-8229-47B6-9E3C-81EEE47DA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F0C1-18B4-45D4-83E0-58A408E82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92CA8E-304C-45A5-BA70-52249F66028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