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4213"/>
        <c:axId val="17544439"/>
      </c:barChart>
      <c:catAx>
        <c:axId val="6134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44439"/>
        <c:crosses val="autoZero"/>
        <c:auto val="1"/>
        <c:lblAlgn val="ctr"/>
        <c:lblOffset val="100"/>
        <c:noMultiLvlLbl val="0"/>
      </c:catAx>
      <c:valAx>
        <c:axId val="17544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4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5EE-E019-400E-82E2-ED0B0A0A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741-F918-44F2-A427-1A9C6429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CCA-692F-4F46-B11C-EB5EB39E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B9F-0954-4107-B165-28720ED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5C7-A56D-4343-8D04-6EB67539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29F-D74A-4933-9BBE-F2F26040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39D-C83C-4EAC-BEC3-6608D201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9FF-6363-41A8-A4F3-5BA0A8FB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F8D-B723-4B61-8AD6-C5BF9F41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D91-3FFB-4178-9DF2-7BA6CDA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E69-D20D-4AA0-91FB-F2EE07E9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08F-AFA7-4358-AFF6-60541403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F6A13-8529-4107-B13C-6B8D5EB107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