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64287"/>
        <c:axId val="23137826"/>
      </c:barChart>
      <c:catAx>
        <c:axId val="31064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37826"/>
        <c:crosses val="autoZero"/>
        <c:auto val="1"/>
        <c:lblAlgn val="ctr"/>
        <c:lblOffset val="100"/>
        <c:noMultiLvlLbl val="0"/>
      </c:catAx>
      <c:valAx>
        <c:axId val="23137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4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609-E01E-408F-B1D8-A3558D63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F8D-5E99-41EE-87A4-C4694241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2D0-DD32-4822-BD0B-18EF6BEA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FAF-D9E8-4B96-8935-D0A199DE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BA6-A705-4566-80C2-30D22D3A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6E9-D3EB-455F-86FF-BB74211A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ABD-308A-4708-BF0C-AD20E9F8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9CC-697F-47BE-8DD6-1D0CD83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D79-C36B-4257-9CCE-BCE21ED2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679-B4E0-4B5C-864D-CFD8E03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7A6-AF29-4C78-8478-EE7426D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13F-EDCB-4F0D-8EC0-C662AB42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F65E-BBEE-4718-80F7-F0C453A7BC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