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80905"/>
        <c:axId val="28771803"/>
      </c:barChart>
      <c:catAx>
        <c:axId val="45280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71803"/>
        <c:crosses val="autoZero"/>
        <c:auto val="1"/>
        <c:lblAlgn val="ctr"/>
        <c:lblOffset val="100"/>
        <c:noMultiLvlLbl val="0"/>
      </c:catAx>
      <c:valAx>
        <c:axId val="28771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80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929-497C-400B-BFAC-F4A71C51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957-F2E6-43E4-9C3D-BA0368F7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867-E88F-4180-8C1A-B5F96C3F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A82-A376-44CE-AF46-DA2393FD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CB7-3F6F-4D26-8243-421E4E5B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5C7-464D-464B-A058-5E775A49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D26-1814-47D1-AB4E-F0D82E89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E02-3933-4772-8CCD-10054FB0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980-48BD-4ACA-893E-6F4195FB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F37-1EE2-4864-9F54-8AFD7F29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C6E-F3EB-464B-B6C6-97B1C537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A89-B54D-4E8A-996C-1282BE97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5F63B-8440-4B71-ABC0-713484903E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