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58677"/>
        <c:axId val="22896511"/>
      </c:barChart>
      <c:catAx>
        <c:axId val="41258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96511"/>
        <c:crosses val="autoZero"/>
        <c:auto val="1"/>
        <c:lblAlgn val="ctr"/>
        <c:lblOffset val="100"/>
        <c:noMultiLvlLbl val="0"/>
      </c:catAx>
      <c:valAx>
        <c:axId val="22896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58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378-F1EB-413F-B023-9E3E91C3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5C4-1826-471F-80AA-DAD77FC5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A7D-26F9-498C-A1E6-01F01F64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CF9-AE6B-4748-8147-54B4BC50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CE9-0F50-46AB-81ED-601ADCF0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A7A-A871-4213-8FEF-26164AE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425-AD6B-4AC4-8112-CA0E2FEA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C16-318A-4A39-93BD-4AE2111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EDD-6C46-4897-990A-11EC945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2E8-278F-4166-9754-A5D1C492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C6E-A845-48DD-9E2D-D8F09DAB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79E-0030-44C6-85B9-437F60A7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F99A1-4055-4099-BCBD-DB34F7222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