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47555"/>
        <c:axId val="29479688"/>
      </c:barChart>
      <c:catAx>
        <c:axId val="93547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79688"/>
        <c:crosses val="autoZero"/>
        <c:auto val="1"/>
        <c:lblAlgn val="ctr"/>
        <c:lblOffset val="100"/>
        <c:noMultiLvlLbl val="0"/>
      </c:catAx>
      <c:valAx>
        <c:axId val="294796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47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ADE7-04B9-4735-8B8A-1BA8F797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04C-7BC7-4B50-9042-AD8376C1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EAE-B264-40FC-B40A-AC8EAEA9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303B-6937-415D-8858-1646D640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4C3F-D09D-47E6-AAFF-A6AB4DC3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E4D4-175B-40EB-925F-5591DED9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2F6D-2E0C-4EA0-9A5B-AF945C83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06D-B5A6-4762-8A85-0E656342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39B0-E29E-4343-9C94-8B03B279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6E2-ED11-4984-97CD-9E31DF22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933-BA74-4828-8526-A9C10EA3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42C-3FC3-4FF6-90C5-F1A81F9E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7B419-76DC-47C9-AA5E-61EEE9C887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