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24206"/>
        <c:axId val="66215795"/>
      </c:barChart>
      <c:catAx>
        <c:axId val="91724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15795"/>
        <c:crosses val="autoZero"/>
        <c:auto val="1"/>
        <c:lblAlgn val="ctr"/>
        <c:lblOffset val="100"/>
        <c:noMultiLvlLbl val="0"/>
      </c:catAx>
      <c:valAx>
        <c:axId val="66215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24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DCF-6F7F-46DB-A122-97C1C3AB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95A-D1B4-41E3-A1FF-B91378F3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137-7923-4C90-AE43-54CF62DD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8F5-3365-4E31-AF41-4D71DFC3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BA5-7A03-4BAA-8EE1-B82B68C0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D94-74BD-435B-8659-EADF10AB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0A6-B1D2-46B8-AE68-871E1DE7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988-57B7-46F0-8E6C-0412A191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212-3E9B-4962-8BCC-3959539C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FAB-4C69-48E1-9581-50C502A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EF1-A29A-4FB8-BB30-2FEBAB30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171-5671-421D-8A89-23D2797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B22E6-090B-4A91-9B54-6F6728BD4A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