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3397"/>
        <c:axId val="18851679"/>
      </c:barChart>
      <c:catAx>
        <c:axId val="9623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51679"/>
        <c:crosses val="autoZero"/>
        <c:auto val="1"/>
        <c:lblAlgn val="ctr"/>
        <c:lblOffset val="100"/>
        <c:noMultiLvlLbl val="0"/>
      </c:catAx>
      <c:valAx>
        <c:axId val="18851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3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007-AC39-4FC4-94A9-A56FCA36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ADB-CE9E-42C0-9D47-28E2514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0A9-DA73-4187-9EF3-42044BCA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3A0-4B0D-4E24-AFE6-AB6E6684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A9C-4210-42AE-8023-A50AB22A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0F6-E49D-4C87-A701-4D5A1CD4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690-49D3-46BB-BFEE-DC2BBBBF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7C6-9B61-487F-8519-98257217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485-675F-4972-A5AC-C9553F2B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DF5-654B-490A-988B-328D9A6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80A-A82B-4E0F-AA52-F15CDEDF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434-F996-4F42-8C9D-F3090CF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DB8A7-838C-4BB0-B3B0-64DF0F0974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