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124932"/>
        <c:axId val="12928144"/>
      </c:barChart>
      <c:catAx>
        <c:axId val="841249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28144"/>
        <c:crosses val="autoZero"/>
        <c:auto val="1"/>
        <c:lblAlgn val="ctr"/>
        <c:lblOffset val="100"/>
        <c:noMultiLvlLbl val="0"/>
      </c:catAx>
      <c:valAx>
        <c:axId val="129281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249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31F3-A58E-41B5-BBAF-9DC1DFEE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9634-117C-4028-9694-7BA6258F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6457-78B1-4878-B28B-86E60265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F8BA-B80B-4389-B35F-7E4DC41C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6AEB-0BAC-443A-A410-B37B5C80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1EA6-39ED-4B79-967C-EC7B25CA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BA3D-3A41-47F1-8E31-F1D24329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51DF-1F56-4D31-BD82-41451DE9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FF6F-08B0-4145-86DD-6673CEDB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33CD-B794-490C-9CA4-B84FFCD5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B81C-4843-4D34-B4A9-2F3AB7C4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27DD-5EEB-4814-91DB-ECF29DD2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DC893-0C29-414D-9EB8-EE46F07499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