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18163"/>
        <c:axId val="35576729"/>
      </c:barChart>
      <c:catAx>
        <c:axId val="71181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576729"/>
        <c:crosses val="autoZero"/>
        <c:auto val="1"/>
        <c:lblAlgn val="ctr"/>
        <c:lblOffset val="100"/>
        <c:noMultiLvlLbl val="0"/>
      </c:catAx>
      <c:valAx>
        <c:axId val="355767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181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144D-BE77-488B-9639-89288DD9E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B86B-0CF1-478A-8924-1FA2B0EC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E896-26D7-4473-968C-5D501FFE5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3A36-E7F7-4B7A-92D8-5F0F42FE0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A433-2DBF-4994-8EA5-B9560C13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A29A-B4DE-4A0B-8CD7-8717357C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3AD4-C85E-4CD8-9FEB-52BB66AF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A260-3379-4751-BE65-AEE9556F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7D1C-BDAC-4F9F-A7BB-162248BF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B4E6-A97E-4312-BEA0-06C584F3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8427-D2D1-4207-B068-6F99CA34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7086-E4B6-4437-917F-BE633397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EADCB1-AAB2-4AEB-A230-20C0C8D4B3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