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4769"/>
        <c:axId val="45639317"/>
      </c:barChart>
      <c:catAx>
        <c:axId val="3584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39317"/>
        <c:crosses val="autoZero"/>
        <c:auto val="1"/>
        <c:lblAlgn val="ctr"/>
        <c:lblOffset val="100"/>
        <c:noMultiLvlLbl val="0"/>
      </c:catAx>
      <c:valAx>
        <c:axId val="45639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4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897-9AF1-4884-8A23-8CEAC206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C05-DFDE-497C-9761-1156050B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C44-05C9-4E90-BD7C-04AF943D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D11-1265-4C16-890F-C5C113D0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0CB-9891-48E3-AA5D-0B3AD2D2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F56-4D9D-45FE-96DA-630CDBB5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98B-B49F-4909-B927-70CD0549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874-3D4D-48BE-A131-2CDF8F63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288-ED31-47B6-99A7-1A346D8A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126-475A-4627-871D-D225C263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635-88CE-4A76-A543-7BF92470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166-9F9D-40BB-AB52-1461C6B3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80633-E129-4466-A1D4-AA404F7842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