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E68-DB51-4BC6-9D96-189A0CB8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DE8-6634-41B4-8332-62B5B017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907E-910B-4E5B-9DB5-3F993987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0652-40AC-4B68-8C63-F7080C52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EAAE-B219-4173-97A5-E7A5328A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43D2-CDA7-456B-BBA4-87F46ECB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4801-D2A1-464D-9BDC-3328FF68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4C62-65B4-4590-9D19-9817FDFE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E9C4-B6B9-49D6-8BF5-718D2C52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50E0-5F74-476F-A043-3636698F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6F5D-5171-466E-859E-351C963C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F73-622D-4188-928A-7F2E3F17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481B-6DDA-4C3A-A98C-B772CB12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3643-258A-447B-A7A0-2390CF41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FB75-7D0B-4764-B190-3EEFA54A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2DF1-BB78-4E36-A9C5-09EF9FE4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A0DE-E80B-4F94-9160-B3B689FD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AC5-CFE5-46D1-88D3-31940040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1868-6725-4493-9B2B-A1352AB7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5CD-F8F0-4833-A015-073D01AE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DFF6-E44D-4E11-9601-1BCAF548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289-8651-429C-9C64-A7F8CF8F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E7EE-9053-4F0D-B2DC-4BF6B99B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D1AA-9E29-496A-BFD2-7E4E655B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E387-CF3D-49B1-BFCE-101F145D36A9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DC2C-A027-478D-BC97-882226E0CAA2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plomverteidig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hem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Untersuchung zur Realisierbarkeit einer technologieneutral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apping-Schicht für den Datenaustausch am Beispiel einer Anwendu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um medizinischen Formulardruck als integrativer Bestandteil e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lectronic Health Record (EH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lmenau, den 27.01.2003        *        25973        *        Torsten Ku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2 Auszug des E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ERD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5832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3 Kommunikationsmod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4" name="Resmedicinae_2Tier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4 Klassendiagram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Gesamtmodell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5. Der Prototyp: </a:t>
            </a:r>
            <a:r>
              <a:rPr b="0" i="1" lang="de-DE" sz="4400" spc="-1" strike="noStrike">
                <a:solidFill>
                  <a:srgbClr val="ffcc66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ReForm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 Zusammenfass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essere Strukturierung von Prgrammcode mit Softwaremu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rschiedene Persistenzmechanismen garantieren ein sicheres Arbei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teile verteilter Anwendungen werden für die Verwaltung der Patientenkarteien genutz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kombiniert Persistenz und Kommunikation in einer Schic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ransparent, flexibel erweite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1 Ausblic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llständige Implementierung der entworfenen Mod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s Formulardesigners für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gleichartigen Codes aus den Fat-Clients und Entwicklung eines Drei-Schichten-Mod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Welche Fragen sind offen geblieb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Question1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2017800" cy="2200320"/>
          </a:xfrm>
          <a:prstGeom prst="rect">
            <a:avLst/>
          </a:prstGeom>
          <a:ln w="0">
            <a:noFill/>
          </a:ln>
        </p:spPr>
      </p:pic>
      <p:pic>
        <p:nvPicPr>
          <p:cNvPr id="146" name="Question2" descr=""/>
          <p:cNvPicPr/>
          <p:nvPr/>
        </p:nvPicPr>
        <p:blipFill>
          <a:blip r:embed="rId2"/>
          <a:stretch/>
        </p:blipFill>
        <p:spPr>
          <a:xfrm>
            <a:off x="6095880" y="2590920"/>
            <a:ext cx="2816280" cy="3805200"/>
          </a:xfrm>
          <a:prstGeom prst="rect">
            <a:avLst/>
          </a:prstGeom>
          <a:ln w="0">
            <a:noFill/>
          </a:ln>
        </p:spPr>
      </p:pic>
      <p:pic>
        <p:nvPicPr>
          <p:cNvPr id="147" name="Question3" descr=""/>
          <p:cNvPicPr/>
          <p:nvPr/>
        </p:nvPicPr>
        <p:blipFill>
          <a:blip r:embed="rId3"/>
          <a:stretch/>
        </p:blipFill>
        <p:spPr>
          <a:xfrm>
            <a:off x="1143000" y="3505320"/>
            <a:ext cx="1612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smedicinae_3Tier" descr=""/>
          <p:cNvPicPr/>
          <p:nvPr/>
        </p:nvPicPr>
        <p:blipFill>
          <a:blip r:embed="rId1"/>
          <a:stretch/>
        </p:blipFill>
        <p:spPr>
          <a:xfrm>
            <a:off x="378000" y="380880"/>
            <a:ext cx="4620960" cy="609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15400" y="803160"/>
            <a:ext cx="30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rei-Schichten-Mod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Inhal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orstellung des Projektes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otivation und Zielstellu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lementare Architekturen (Softwaremus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igener Ansatz (Modelle und Umsetzu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Prototyp: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Zusammenfassung und Ausbl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 Res Medicina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ezeichnung aus dem Lateinisch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u deutsch: „Sache der Medizin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ponentenbasiertes Open Source 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nt der Verwaltung, Darstellung, Auswertung und sicheren Verteilung von Patienten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rimäre Zielgruppe: Ärzte, ArzthelferInnen, Pati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forderungsanalyse parallel zur Realisierungsphas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=&gt; Extreme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eines Framewor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1 Eine Einsatzmöglichkei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bination von Handheld / Tablet PC mit dem Krankenb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rtsunabhängi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erringerter Verwaltungsaufwand für die Ärz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otwendigkeit eines Sicherheits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Anwendungen2_Krankenhaus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05320" cy="2732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9880" y="1752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1560" y="1752480"/>
            <a:ext cx="37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richtungsinterne Nutzu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 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 einziger Persistenzmechanismus ist unzureichend für die Datenspeicherung moderner Software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munikation zwischen den einzelnen Modulen 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notwendig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en von externen Services (OMG HDTF: PIDS, CIAS, CO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sergebnisse sollen abstrahierbar und in das Framework aufnehmbars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1 Aufgabenstell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r transparenten Schicht, um Domain Model und Backend möglichst unabhängig voneinander zu gestalte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asis: Softwarem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 von Kommunikationsparadigmen und Finden einer allgemeinen Möglichkeit, diese transparent zu nut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esten der umgesetzten Modelle anhand eines zu erstellenden Prototypen zum elektronischen Formulardru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3. Zwei wesentliche Softwaremuster</a:t>
            </a:r>
            <a:br>
              <a:rPr sz="3600"/>
            </a:b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                          </a:t>
            </a: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für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Persisten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DataMaper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429000" cy="3535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412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Kommunik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248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Ma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6248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Transfer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DTO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114800" cy="3503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5029200"/>
            <a:ext cx="2590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23623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62320"/>
            <a:ext cx="4191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43000" y="236196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9680" y="472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495680"/>
            <a:ext cx="586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153280" y="3733920"/>
            <a:ext cx="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 Eigener Ansatz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51520" y="2125800"/>
            <a:ext cx="36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66720" y="1904760"/>
            <a:ext cx="4496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odel-View-Controller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zur Präsentation der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omain Mode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Electronic Health Record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)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gener Datentyp für die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e einzige Schicht für die transparente Datensicherung und Kommunik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Persistenzschicht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Back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LogischeArchitektur_Resmedicinae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26120" cy="4648320"/>
          </a:xfrm>
          <a:prstGeom prst="rect">
            <a:avLst/>
          </a:prstGeom>
          <a:ln w="0">
            <a:noFill/>
          </a:ln>
        </p:spPr>
      </p:pic>
      <p:pic>
        <p:nvPicPr>
          <p:cNvPr id="123" name="DataMaper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6095880" y="45720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00040" y="5105520"/>
            <a:ext cx="2895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4495680"/>
            <a:ext cx="1752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289512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57913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1 Dateien und Tabellen</a:t>
            </a:r>
            <a:br>
              <a:rPr sz="4400"/>
            </a:br>
            <a:r>
              <a:rPr b="0" lang="de-DE" sz="1800" spc="-1" strike="noStrike">
                <a:solidFill>
                  <a:srgbClr val="ffcc66"/>
                </a:solidFill>
                <a:latin typeface="Arial"/>
              </a:rPr>
              <a:t>Zwei entworfene und umgesetzte Persistenzmechanismen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XML2DB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763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07:39:32Z</dcterms:created>
  <dc:creator>zonie</dc:creator>
  <dc:description/>
  <dc:language>en-US</dc:language>
  <cp:lastModifiedBy>zonie</cp:lastModifiedBy>
  <dcterms:modified xsi:type="dcterms:W3CDTF">2003-01-22T14:39:41Z</dcterms:modified>
  <cp:revision>130</cp:revision>
  <dc:subject/>
  <dc:title>Diplomverteidigung</dc:title>
</cp:coreProperties>
</file>