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C2A-81B2-4383-9D34-77F20064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6FB-D440-473D-8AD0-7ED2A0B0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DC3-5323-4006-A669-3D3356A2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2564-891F-4B71-AB4B-1E672532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655-30F7-4A57-AE69-88CC9E91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B57-B9AF-4724-9CA3-E26CA38B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1DB7-010B-45F9-9B3F-395E9AC8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3A9C-90A3-42F8-BE17-F2DEEA9D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116-9762-403B-BA7A-1EC84A87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7C1-DED7-4D2E-B3F4-21032FCE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1A5B-C1E5-4214-8BCA-01C1B1CF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3986-1DDE-4163-A1B4-93D71356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68C6-C556-4EED-99DB-C0442D68CF7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A71A-986B-4F0D-9D50-746363327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3ABD-E4A4-4A70-8121-40B49432825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82F90-5029-4AEE-9D3D-021276D6C4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7220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20088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73380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814A-F1AE-4149-A6E6-6EC928DCA3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89F62-12AF-43E9-B426-BF7A97A4F0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475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, skip f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48769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5334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38098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C32B-47E2-4011-9A64-E74204DC30F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4CCD0-16A5-4EA0-A92C-3F437EF94C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DDF-1221-4238-AD00-37FFB70DD98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6F044-F13B-4015-AC41-952A962338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3A4-814D-41C4-91EF-EA68D24CF6C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8B366-9B7D-4B3F-A1E0-B6290BB368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6DC-3677-4949-AE89-B889EB78B9B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5629F-D9A3-4A0D-B179-274CD3C7D7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F3B1-7FD1-42E9-ABCA-17C2D93C720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1F37E-2995-41DF-A82F-BD6112FDB1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000" y="220968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209680"/>
            <a:ext cx="312444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F83E-D390-44EC-B17A-2780058BE70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D2899-4004-4BE7-9BA9-D089552C07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7569-D217-4C00-80E4-F88521C8C8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88779-57A4-41CB-9DC0-B73AA7933E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00200" y="205740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 flipH="1">
            <a:off x="2018880" y="2705040"/>
            <a:ext cx="388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6619-7A9B-43FC-BB15-E3970B3819A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E2815-A572-45B0-B81A-18E2FB4DD1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1657-161D-4EDC-852A-A66E9C85511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76B79-4688-4A1F-AEDB-7597662086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9C8-E183-4D42-A843-9BC283DF613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522D9-0444-4FE1-8A53-C3B7C4F633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FBFA-A48B-4513-ADF8-98CADAEFCC8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FC462-DBA2-42F0-BA98-BA33F0FC54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C80-3A18-451C-8B43-782EA2C7BA5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AE6BF-7606-4F01-B169-D7B78A7B73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819-B459-49AB-B298-F2DEEA646B8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60085-E307-4346-96CE-D294A77F87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B37-FB63-4CDA-B473-786E87AB8ACA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FA1E1-9820-42A5-A996-CBDB1D483B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B18-CCDB-4239-859D-62A0AA4A0FFE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E9886-5E01-402E-8CBE-605FB3CD3A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D7F-BE68-4D7B-89C8-1E260D94B9C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0BBC3-8526-43EA-B7A2-E2F55A65E9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A19A-8BF9-4BA7-918F-E9E7A5CC89D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2893B-9476-4A9E-83EE-59279ABFDF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EA9-492A-435D-B359-06223FA868D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EE70D-B1A9-4BDF-A1F5-863DB9C713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EB60-D9ED-440C-921B-2E9EF389DD5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47111-0D54-4326-83AA-30D179B025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wt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0036-EBE8-4B32-9CBE-C44D81FF86A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E581B-A283-4A6F-BEB6-F1E155C74B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19E2-24F0-4428-A41A-1F1A055500F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5038E-A972-4C55-8EB4-FFA1D76290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s several objects to gather and display data on lin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591080" y="2038320"/>
            <a:ext cx="4124160" cy="3543120"/>
            <a:chOff x="4591080" y="2038320"/>
            <a:chExt cx="4124160" cy="3543120"/>
          </a:xfrm>
        </p:grpSpPr>
        <p:sp>
          <p:nvSpPr>
            <p:cNvPr id="448" name=""/>
            <p:cNvSpPr/>
            <p:nvPr/>
          </p:nvSpPr>
          <p:spPr>
            <a:xfrm>
              <a:off x="5281560" y="3975120"/>
              <a:ext cx="1052640" cy="671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ver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91080" y="2908080"/>
              <a:ext cx="1052280" cy="67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Gra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31040" y="3975120"/>
              <a:ext cx="1050840" cy="67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B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9240" y="2038320"/>
              <a:ext cx="1052280" cy="66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62600" y="3970080"/>
              <a:ext cx="1052640" cy="669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rop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31040" y="4908240"/>
              <a:ext cx="1050840" cy="673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19880" y="2869920"/>
              <a:ext cx="1052280" cy="67176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54" idx="2"/>
              <a:endCxn id="448" idx="0"/>
            </p:cNvCxnSpPr>
            <p:nvPr/>
          </p:nvCxnSpPr>
          <p:spPr>
            <a:xfrm rot="5400000">
              <a:off x="6160320" y="3189240"/>
              <a:ext cx="434160" cy="1139040"/>
            </a:xfrm>
            <a:prstGeom prst="bentConnector3">
              <a:avLst>
                <a:gd name="adj1" fmla="val 4979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54" idx="2"/>
              <a:endCxn id="452" idx="0"/>
            </p:cNvCxnSpPr>
            <p:nvPr/>
          </p:nvCxnSpPr>
          <p:spPr>
            <a:xfrm flipH="1" rot="16200000">
              <a:off x="7353360" y="3134160"/>
              <a:ext cx="429120" cy="124380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4" idx="2"/>
              <a:endCxn id="450" idx="0"/>
            </p:cNvCxnSpPr>
            <p:nvPr/>
          </p:nvCxnSpPr>
          <p:spPr>
            <a:xfrm>
              <a:off x="6946920" y="3541680"/>
              <a:ext cx="10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8" name=""/>
            <p:cNvCxnSpPr>
              <a:stCxn id="450" idx="2"/>
              <a:endCxn id="453" idx="0"/>
            </p:cNvCxnSpPr>
            <p:nvPr/>
          </p:nvCxnSpPr>
          <p:spPr>
            <a:xfrm>
              <a:off x="6955920" y="4647600"/>
              <a:ext cx="1080" cy="261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9" name=""/>
            <p:cNvCxnSpPr>
              <a:stCxn id="451" idx="1"/>
              <a:endCxn id="449" idx="0"/>
            </p:cNvCxnSpPr>
            <p:nvPr/>
          </p:nvCxnSpPr>
          <p:spPr>
            <a:xfrm flipV="1" rot="10800000">
              <a:off x="5117400" y="2372760"/>
              <a:ext cx="411840" cy="535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0" name=""/>
            <p:cNvCxnSpPr>
              <a:stCxn id="451" idx="3"/>
              <a:endCxn id="454" idx="0"/>
            </p:cNvCxnSpPr>
            <p:nvPr/>
          </p:nvCxnSpPr>
          <p:spPr>
            <a:xfrm>
              <a:off x="6581160" y="2373120"/>
              <a:ext cx="366120" cy="497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C4E3-5833-4083-A89B-DB04350899C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BDAF5-9C5B-4A75-86DA-1B5A91B3EF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E38-7B2B-4242-84C6-D52776B33CEA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E391D-623F-46DD-A6CD-52E8816DF5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6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7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6B84-07EA-4C82-BB21-788DC310D5B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B57CC-9FF9-4B28-AC06-1F24E8DE66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5A3F-A7D2-4662-8E9A-622234A2E53D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2AFE0-7FC2-40E8-A501-98494B5735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0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2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82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4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50D1-FF2A-40E9-A424-73CA75C31B9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6DB8E-54DC-49F8-80B7-AF4AF88431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F689-8D1D-4C8F-AC40-430A7FC71D40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44AEF-8DE6-4350-B997-4287E8D681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93" idx="1"/>
            <a:endCxn id="497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97" idx="2"/>
            <a:endCxn id="492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0" idx="2"/>
            <a:endCxn id="492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1AA1-1BF0-407B-86A1-C4641E9F5F99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29FF9-FA51-4C07-A756-476AD4D8E1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7" name=""/>
          <p:cNvCxnSpPr>
            <a:stCxn id="508" idx="3"/>
            <a:endCxn id="509" idx="2"/>
          </p:cNvCxnSpPr>
          <p:nvPr/>
        </p:nvCxnSpPr>
        <p:spPr>
          <a:xfrm flipV="1">
            <a:off x="4723920" y="2437920"/>
            <a:ext cx="72468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0" name=""/>
          <p:cNvCxnSpPr>
            <a:stCxn id="508" idx="3"/>
            <a:endCxn id="511" idx="2"/>
          </p:cNvCxnSpPr>
          <p:nvPr/>
        </p:nvCxnSpPr>
        <p:spPr>
          <a:xfrm flipV="1">
            <a:off x="4724280" y="2437920"/>
            <a:ext cx="202032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7692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722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3" idx="2"/>
            <a:endCxn id="508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508" idx="1"/>
            <a:endCxn id="514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8" idx="3"/>
            <a:endCxn id="515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14" idx="1"/>
            <a:endCxn id="516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4" idx="3"/>
            <a:endCxn id="517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7" idx="2"/>
            <a:endCxn id="518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8AB-ACA6-4963-82E6-9660EE290B2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91FD1-CB2B-4A4B-80B6-BCDDC6FAFF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6" name=""/>
          <p:cNvCxnSpPr>
            <a:stCxn id="527" idx="3"/>
            <a:endCxn id="528" idx="2"/>
          </p:cNvCxnSpPr>
          <p:nvPr/>
        </p:nvCxnSpPr>
        <p:spPr>
          <a:xfrm flipV="1">
            <a:off x="6326280" y="2569320"/>
            <a:ext cx="48816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29" name=""/>
          <p:cNvCxnSpPr>
            <a:stCxn id="527" idx="3"/>
            <a:endCxn id="530" idx="2"/>
          </p:cNvCxnSpPr>
          <p:nvPr/>
        </p:nvCxnSpPr>
        <p:spPr>
          <a:xfrm flipV="1">
            <a:off x="6326280" y="2569320"/>
            <a:ext cx="136584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1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2780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30404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73520" y="205740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1" idx="2"/>
            <a:endCxn id="527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27" idx="1"/>
            <a:endCxn id="532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7" idx="3"/>
            <a:endCxn id="533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2" idx="1"/>
            <a:endCxn id="534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2" idx="3"/>
            <a:endCxn id="535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5" idx="2"/>
            <a:endCxn id="536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D64E-C49E-46FA-AF26-C29CA804F9B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ACF95-AC01-40FC-8444-7B42288395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90E4-15E5-411A-90D3-40876CB2EBF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468EF-56A6-479E-98CC-FDC5DC065A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957-DED4-4868-B41C-98E075AE0FC5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71F8A-8179-4601-AFF5-4C131F3BE2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3A0-1B72-4883-89CE-3AB363D0AE1F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AC115-20DC-4A2C-8C92-C4220B37E8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906-C8EA-4A38-8C11-AA12A6DEC17A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BF123-DD18-46EB-9912-CF8550FD8F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39D5-A879-490A-8C7F-6D10099764B7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9E611-9281-404C-BEF4-D660793B02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GUI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"/>
          <p:cNvCxnSpPr>
            <a:stCxn id="561" idx="3"/>
            <a:endCxn id="564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"/>
          <p:cNvCxnSpPr>
            <a:stCxn id="561" idx="2"/>
            <a:endCxn id="566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66" idx="2"/>
            <a:endCxn id="567" idx="0"/>
          </p:cNvCxnSpPr>
          <p:nvPr/>
        </p:nvCxnSpPr>
        <p:spPr>
          <a:xfrm>
            <a:off x="6017760" y="3979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235B-8A74-43B4-9648-BBC1FECA074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F4ABB-C9D9-4C9E-9CBB-45B0C513B1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A82-304C-48F3-B50F-4790F69374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3535F-C52F-4A36-AE3D-F5AEF13E05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94F-F718-49C8-BFFF-B3D6809CE7BD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1584E-A6F1-46AC-91EC-B74CE6525D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C40F-2CD8-4CF3-B1DB-CC5417598DB2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5D788-F75F-4B1C-9F5F-3A401283D1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4DC-6BDF-4782-BF52-88D0937F2262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43343-7C4C-4A64-97D4-C419C8D34D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848-20D9-4B9E-853E-C0AB16B8D74E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69C5D-4DF1-49B8-B1E3-8F9A8EC354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Benedikt Stefansson</cp:lastModifiedBy>
  <cp:lastPrinted>1998-03-19T09:02:27Z</cp:lastPrinted>
  <dcterms:modified xsi:type="dcterms:W3CDTF">1998-03-19T09:23:50Z</dcterms:modified>
  <cp:revision>13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